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04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80036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90720" y="394992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04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00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1280" y="1800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949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1280" y="3949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04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00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2440" y="1800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34520" y="180036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90720" y="39499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2440" y="39499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34520" y="39499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04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990720" y="1800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04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800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04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80036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1280" y="180036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04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990720" y="2473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04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720" y="1800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1280" y="180036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90720" y="3949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04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80036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280" y="1800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1280" y="39499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a04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800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1280" y="180036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394992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84040" y="358920"/>
            <a:ext cx="8577360" cy="6067440"/>
            <a:chOff x="284040" y="358920"/>
            <a:chExt cx="8577360" cy="6067440"/>
          </a:xfrm>
        </p:grpSpPr>
        <p:grpSp>
          <p:nvGrpSpPr>
            <p:cNvPr id="1" name=""/>
            <p:cNvGrpSpPr/>
            <p:nvPr/>
          </p:nvGrpSpPr>
          <p:grpSpPr>
            <a:xfrm>
              <a:off x="284040" y="358920"/>
              <a:ext cx="8577360" cy="6067440"/>
              <a:chOff x="284040" y="358920"/>
              <a:chExt cx="8577360" cy="6067440"/>
            </a:xfrm>
          </p:grpSpPr>
          <p:sp>
            <p:nvSpPr>
              <p:cNvPr id="2" name=""/>
              <p:cNvSpPr/>
              <p:nvPr/>
            </p:nvSpPr>
            <p:spPr>
              <a:xfrm>
                <a:off x="284040" y="358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84040" y="587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84040" y="8161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84040" y="10447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84040" y="12733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4040" y="1501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84040" y="1730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84040" y="19591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4040" y="21877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84040" y="24163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4040" y="2644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4040" y="2873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4040" y="31021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84040" y="33307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84040" y="35593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84040" y="3787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84040" y="4016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284040" y="42451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4040" y="44737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4040" y="47023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84040" y="4930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84040" y="5159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84040" y="53881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84040" y="56167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84040" y="58453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4040" y="60739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84040" y="6302520"/>
                <a:ext cx="8577360" cy="12384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  <a:effectLst>
                <a:outerShdw dist="17819" dir="2700000" blurRad="0" rotWithShape="0">
                  <a:srgbClr val="4c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774720" y="1536840"/>
              <a:ext cx="7594560" cy="4775040"/>
            </a:xfrm>
            <a:prstGeom prst="rect">
              <a:avLst/>
            </a:prstGeom>
            <a:solidFill>
              <a:srgbClr val="800000"/>
            </a:solidFill>
            <a:ln w="2556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a04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ffa04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990720" y="1800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a04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a04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a040"/>
              </a:buClr>
              <a:buSzPct val="8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fa04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fa04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1" lang="en-US" sz="5400" spc="-1" strike="noStrike">
              <a:solidFill>
                <a:srgbClr val="ffa04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2181240"/>
            <a:ext cx="7162560" cy="41148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e desire to succeed means nothing without the will to prepare!</a:t>
            </a:r>
            <a:endParaRPr b="1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4640" y="581040"/>
            <a:ext cx="7091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94360" y="2233440"/>
            <a:ext cx="6269760" cy="2282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You can’t direct th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wind, but you ca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adjust your sails 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4640" y="581040"/>
            <a:ext cx="7091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99400" y="2165400"/>
            <a:ext cx="6518160" cy="2831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If you don’t c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where you are going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any road wil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get you ther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4640" y="581040"/>
            <a:ext cx="7091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3520" y="2095560"/>
            <a:ext cx="6606720" cy="2923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Saratog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Saratoga"/>
              </a:rPr>
              <a:t>The future is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aratoga"/>
              </a:rPr>
              <a:t>     </a:t>
            </a:r>
            <a:r>
              <a:rPr b="1" lang="en-US" sz="6000" spc="-1" strike="noStrike">
                <a:solidFill>
                  <a:srgbClr val="ffffff"/>
                </a:solidFill>
                <a:latin typeface="Saratoga"/>
              </a:rPr>
              <a:t>purchased b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aratoga"/>
              </a:rPr>
              <a:t>        </a:t>
            </a:r>
            <a:r>
              <a:rPr b="1" lang="en-US" sz="6000" spc="-1" strike="noStrike">
                <a:solidFill>
                  <a:srgbClr val="ffffff"/>
                </a:solidFill>
                <a:latin typeface="Saratoga"/>
              </a:rPr>
              <a:t>the present 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4640" y="581040"/>
            <a:ext cx="70912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74320" y="2400480"/>
            <a:ext cx="6541200" cy="1917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aratoga"/>
              </a:rPr>
              <a:t>People don’t fail,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aratoga"/>
              </a:rPr>
              <a:t>      </a:t>
            </a:r>
            <a:r>
              <a:rPr b="1" lang="en-US" sz="6000" spc="-1" strike="noStrike">
                <a:solidFill>
                  <a:srgbClr val="ffffff"/>
                </a:solidFill>
                <a:latin typeface="Saratoga"/>
              </a:rPr>
              <a:t>they give up 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7800" y="581040"/>
            <a:ext cx="7863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67360" y="2766960"/>
            <a:ext cx="6199560" cy="155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4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ratog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Saratoga"/>
              </a:rPr>
              <a:t>Failure is the path of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ratoga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Saratoga"/>
              </a:rPr>
              <a:t>least persistence 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4640" y="581040"/>
            <a:ext cx="7091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3800" y="2095560"/>
            <a:ext cx="623916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aratog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Saratoga"/>
              </a:rPr>
              <a:t>Success is more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aratoga"/>
              </a:rPr>
              <a:t>          </a:t>
            </a:r>
            <a:r>
              <a:rPr b="0" lang="en-US" sz="6000" spc="-1" strike="noStrike">
                <a:solidFill>
                  <a:srgbClr val="ffffff"/>
                </a:solidFill>
                <a:latin typeface="Saratoga"/>
              </a:rPr>
              <a:t>attitud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aratoga"/>
              </a:rPr>
              <a:t>    </a:t>
            </a:r>
            <a:r>
              <a:rPr b="0" lang="en-US" sz="6000" spc="-1" strike="noStrike">
                <a:solidFill>
                  <a:srgbClr val="ffffff"/>
                </a:solidFill>
                <a:latin typeface="Saratoga"/>
              </a:rPr>
              <a:t>than aptitude 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4640" y="581040"/>
            <a:ext cx="7091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3920" y="2233440"/>
            <a:ext cx="462996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aratoga"/>
              </a:rPr>
              <a:t>Once you star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aratoga"/>
              </a:rPr>
              <a:t>believing there’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aratoga"/>
              </a:rPr>
              <a:t>nothing y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aratog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Saratoga"/>
              </a:rPr>
              <a:t>can’t d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4640" y="581040"/>
            <a:ext cx="7091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68360" y="2081160"/>
            <a:ext cx="6053400" cy="301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Chance favors th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prepared mind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           </a:t>
            </a: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Louis Pasteu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4640" y="581040"/>
            <a:ext cx="7091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16600" y="2233440"/>
            <a:ext cx="6545880" cy="264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Saratoga"/>
              </a:rPr>
              <a:t>The important thing 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aratog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Saratoga"/>
              </a:rPr>
              <a:t>not to stop questio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aratoga"/>
              </a:rPr>
              <a:t>              </a:t>
            </a:r>
            <a:r>
              <a:rPr b="1" lang="en-US" sz="4000" spc="-1" strike="noStrike">
                <a:solidFill>
                  <a:srgbClr val="ffffff"/>
                </a:solidFill>
                <a:latin typeface="Saratoga"/>
              </a:rPr>
              <a:t>Albert Einste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4640" y="581040"/>
            <a:ext cx="7091280" cy="911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15080" y="2233440"/>
            <a:ext cx="6620400" cy="277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Imagination 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more import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         </a:t>
            </a: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than knowled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                </a:t>
            </a:r>
            <a:r>
              <a:rPr b="1" lang="en-US" sz="4400" spc="-1" strike="noStrike">
                <a:solidFill>
                  <a:srgbClr val="ffffff"/>
                </a:solidFill>
                <a:latin typeface="Saratoga"/>
              </a:rPr>
              <a:t>Albert Einste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4640" y="581040"/>
            <a:ext cx="7091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33520" y="2233440"/>
            <a:ext cx="5727600" cy="3013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No one knows les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than the one who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knows it all 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0000"/>
            </a:gs>
            <a:gs pos="50000">
              <a:srgbClr val="800000"/>
            </a:gs>
            <a:gs pos="100000">
              <a:srgbClr val="26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4640" y="581040"/>
            <a:ext cx="7091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Saratoga"/>
              </a:rPr>
              <a:t>Thought for the D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98960" y="2165400"/>
            <a:ext cx="638892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Saratog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One who lacks th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courage to start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Saratoga"/>
              </a:rPr>
              <a:t>is already finished 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7T15:12:56Z</dcterms:created>
  <dc:creator>Whitehaven High School</dc:creator>
  <dc:description/>
  <cp:keywords/>
  <dc:language>en-US</dc:language>
  <cp:lastModifiedBy>Student</cp:lastModifiedBy>
  <cp:lastPrinted>2009-04-22T19:24:48Z</cp:lastPrinted>
  <dcterms:modified xsi:type="dcterms:W3CDTF">2007-01-21T14:03:31Z</dcterms:modified>
  <cp:revision>4</cp:revision>
  <dc:subject/>
  <dc:title>Thought for the day</dc:title>
</cp:coreProperties>
</file>